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16B7-DD5A-4E8D-ADE4-BEA927DE4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EF07-EE31-4A06-885D-F0A7F35351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3DA0-30EA-45B1-8B04-203C858C9B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08F8-0BDA-47D6-A942-6FF7F4B44C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F173-F400-4844-AF55-7F71C395E3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AA5F-694C-4CFE-9CC2-75AD9A2FE2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067A-C3B6-4C8C-85E1-11F3BE48F6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EFD9-E81F-4CBD-9D65-D581007EB9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38AA-1E0A-4E9C-91F7-A5F751FA17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573F-725D-44B2-B957-CA42516BBC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C45A-B725-4B88-81A3-7A6E34E8BE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8214-9F7E-4472-97DC-0EE97B0883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C76F-E19F-4F2C-8EBC-95820206A2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059F-7951-4866-BF45-FD17763F6B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821-A69E-49BD-B1C1-CBC7C213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86A-9516-4E01-8BE1-4DD0E8C0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A5F-BB64-48EF-9847-1326976C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565-D53E-43B1-8CE6-8A885E2B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98A-AE59-41C5-88BA-2D7A28AA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EACD-904C-4508-919A-CA689606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12B-A066-4A63-A290-A5A4F72B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CED-AC3D-458E-95B7-F4B276A4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2A7-8C0F-435C-B9B6-86938392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06D-9C0B-4117-92DD-AE870364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9DF-9C9C-4B57-8B70-72936A7C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B2F-7A9E-477C-AD26-3A30921E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4D6F-6962-46E6-A6B1-70EEAF7CE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8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9263-BBEB-45CF-B4FD-D38D7F9A1541}" type="slidenum">
              <a:rPr b="0" lang="en-US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ТЕХНИКЕ ОПШТЕ АНЕСТЕЗИЈЕ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3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Интравенска анестезија, инхалациона анестезија, балансирана анестезиј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</a:t>
            </a:r>
            <a:r>
              <a:rPr b="1" i="1" lang="sr-RS" sz="1400" spc="-1" strike="noStrike">
                <a:solidFill>
                  <a:srgbClr val="000000"/>
                </a:solidFill>
                <a:latin typeface="Palatino Linotype"/>
              </a:rPr>
              <a:t>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99400" y="6180120"/>
            <a:ext cx="78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Copyright © 20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0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8BE6-667F-45F1-B1B1-C07D8BB695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анестез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63680" y="1716120"/>
            <a:ext cx="8165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ви мишићни релаксанти су подељени у две груп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еполаризирајући мишићни релаксанти (сукцинил-хол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деполаризирајући мишићни релаксанти (алкурониум..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а би се прекинуло дејство мишићних релаксаната користи 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стигмин у комбинацији са Атропи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9648-DE3D-4F0F-8492-8A2832CA26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халациона анестез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514440" y="2054160"/>
            <a:ext cx="830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 постиже удисањем инхалационог анесте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з дисајних путева, преко алвеоло- капиларне баријере, анестетици улазе у циркула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 растворљивости анестетика у крви зависи брзина увода у анестезију и брзина буђења из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колико је растворљивост мања, утолико ће увод у анестезију бити бржи и обрну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DC26-F145-45FC-B7A0-2B39C8A309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халациона анестез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312840" y="1854360"/>
            <a:ext cx="8831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халациони анестетици који се данас користе је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♦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асни анестетици (азот-оксиду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олатилни (испарљиви) анестетици (Халотан, Енфлуран, Изофлур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 инхалациони и волатилни анестетици испоручују се до дисајних путева пацијента преко апарата  за анестез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халациона анестезија се ретко користи као самостална већ се чешће, за увод у општу анестезију комбинује с интравенском  анестез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988C-393C-48CB-98B2-694D344EA5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халациона анестез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514440" y="1803240"/>
            <a:ext cx="8078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ане инхалационог увода у анестезију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рији ув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прецизно дози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рије буђ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 код неких инхалационих анестетика појава мучнине и повраћања у постанестетичком пери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4736-B2F0-4F68-A8F6-80675448F4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халациона анестез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0720" y="1916280"/>
            <a:ext cx="8167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коришћени инхалациони анестетици 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зот – оксид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алотан – припада групи волатилних анестетика. Веома је снажан анестетик, због чега се мора давати преко прецизно калибрисаних испарива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анас се веома ретко кори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вофлуран – је новији волатилни анестетик. Дејство му наступа веома брзо, као и буђење из анестезије. Данас је често у употре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DC46-BD66-49D9-BCE3-9E5861C14F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Општа ендотрахеална анестез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476280" y="1790640"/>
            <a:ext cx="8178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УПАК УВОЂЕЊА У О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анестетичка припр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спостављање венске лин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вод (интравенски анестетиц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ни релаксант (пласирање тубу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ржавање анестезије (опиоидни аналгетици, волатил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упак буђ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C2C5-BA5F-46AC-A5F6-785B96E8F7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Увод у општу ендотрахеалну анестезију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25360" y="1728720"/>
            <a:ext cx="873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ацијенти се могу увести у општу ендотрахеалну анестез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равенским путем (коришћењем интравенских фармаколошких средстава – хиптнотика, седатива, аналге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халационим путем (коришћењем инхалационих анесте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мбинацијом интравенских и инхалационих средстава (балансирана анестез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4F23-1AE0-4206-B1A6-5AC3FB91AC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анестез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63680" y="1816200"/>
            <a:ext cx="8216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елементи опште анестезије јесу: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ан, аналгезија и мишићна релакса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 сваки од ових елемената постоје посебне посебне групе фармаколошких средст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CB5F-6F71-4530-B21B-888D2D7758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анестез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501480" y="1565280"/>
            <a:ext cx="814104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убитак свести код пацијената постиже се, најчешће, интравенским хиптнотиц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ност оваквог начина увода јесу: брз увод, прецизно дозирање, бржи опорав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се користе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арбитурат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барбитуратна интравенска средст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бор хиптнотика зависи од здравственог стања пацијента, односно од постојања неког хроничног обољ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анестез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34F6-10BE-41B8-B123-BF0F455A52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63680" y="1816200"/>
            <a:ext cx="819144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арбиту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у ултракратког дејства и одмах након примене брзо прелазе у сва ткива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зак као добро прокрвљени орган преузима у почетку највећи део барбиту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бог брзог проласка кроз хематоенцефаличну баријеру, сан наступа скоро трену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арбитурати немају аналгетичка својства и испољавају депресивни ефекат на респираторни и кардиоваскуларни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анестез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AFF2-49BF-4AEE-9FB0-0DFBBF97B5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14440" y="1854360"/>
            <a:ext cx="8178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ПОФОЛ (ДИПИРИВ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барбитуратни интравенски хиптнот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а већи депресивни ефекат на респираторни и кардиоваскуларни систем, што га чини неповољним за примену код пацијената са кардиоваскуларним болест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ЕТАМИН (КЕТАЛА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акође, небарбитуратни интравенски анестетик. Карактерише га значајна сензорна блокада и минимално дејство на ретикуларни и лимбички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ома је погодан за амбулантне хируршке интервен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4489-55D0-4967-9869-475A50B60F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анестез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88880" y="1790640"/>
            <a:ext cx="816624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НАЛГЕ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спостављањем сна не постиже се и аналгетички ефек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бог тога је потребно да се пацијенту обезбеди и аналгез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општој ендотрахеалној анестезији, у том циљу, користе се опиоидни аналгет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пиоидни аналгетици изазивају аналгезију блокадом улаза аферентних информација у ЦНС, директном стимулацијом опиоидних рецептора, при чему су моторика и сензорцијум очув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BF6F-5836-417E-9E11-7E93049349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анестез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01480" y="1979640"/>
            <a:ext cx="8217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ЕНТАН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Је најчешће коришћени опиоид. Синтетисан је из меперид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примењене дозе, веома брзо после давања изазива дубоку аналгез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ајање дејства је око 30 мин али се може продужити и до 9 час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ејство ових лекова, може се анулирати применом опиоидних антагониста, деловањем на месту опоидних рецеп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(Налоксон, Нафор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932C-7FC4-424C-ACF4-2B232905ED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Интравенска анестезиј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501480" y="1503360"/>
            <a:ext cx="816624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ИШИЋНА РЕЛАКС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так примене мишићних релаксаната заузима посебно место у хируршкој анестез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ришћење релаксаната у одговарајућој дози омогућило је хируршку интервенцију без увођења пацијента у дубоку анестезију, чиме је смањен штетан утицај анесте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деловања мишићних релаксаната  заснива се на ометању проласка импулса с неуромоторног на мишићно влак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мускуларни блок се постиже углавном на два начи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) спречавањем синтезе или ослобађања ацетил-хо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) блокадом ацетил-холинских рецеп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Stefan</cp:lastModifiedBy>
  <dcterms:modified xsi:type="dcterms:W3CDTF">2020-02-14T07:40:05Z</dcterms:modified>
  <cp:revision>794</cp:revision>
  <dc:subject/>
  <dc:title>NAZIV PREDAVANJA</dc:title>
</cp:coreProperties>
</file>